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47BE-3525-46B8-9416-224325AAD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D498-8BBE-4E11-B498-8AAF119D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7B74-FD2C-4086-94B2-4E17405E2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03B8-94E1-481A-BC71-EDF151355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F0A1-671E-4A0F-B2E9-ADF96184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E234-2754-4F36-924B-57E8D361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178C-1333-48EF-9C9E-1A1885A3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CD54-50D2-4F28-804A-8E260E27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7882-793A-40D1-A730-595150F5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A873-3AAB-4E2B-BBD5-6A0E2EAB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CD11-025C-4809-B8EA-4C5C0FDD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FB7C-AD54-4DA6-8094-34591770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1111"/>
            </a:gs>
            <a:gs pos="50000">
              <a:srgbClr val="cc0000"/>
            </a:gs>
            <a:gs pos="100000">
              <a:srgbClr val="11111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B0EF-891B-42F8-80FD-6B7F4FE69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gould.html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1111"/>
            </a:gs>
            <a:gs pos="50000">
              <a:srgbClr val="cc0000"/>
            </a:gs>
            <a:gs pos="100000">
              <a:srgbClr val="11111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00200" y="1219320"/>
            <a:ext cx="6019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00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 Laser</a:t>
            </a:r>
            <a:endParaRPr b="0" i="1" lang="en-US" sz="40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5334120" y="4267080"/>
            <a:ext cx="3429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h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22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50292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mak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/3/11, 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06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1111"/>
            </a:gs>
            <a:gs pos="50000">
              <a:srgbClr val="cc0000"/>
            </a:gs>
            <a:gs pos="100000">
              <a:srgbClr val="11111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G. Gould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762120" y="457200"/>
            <a:ext cx="7467480" cy="2362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3733920"/>
            <a:ext cx="4800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melson MI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G.Goul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2/28/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eb.mit.edu/invent/iow/goul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724280" y="4800600"/>
            <a:ext cx="396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4876920"/>
            <a:ext cx="380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ound Squ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/3/11, 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1111"/>
            </a:gs>
            <a:gs pos="50000">
              <a:srgbClr val="cc0000"/>
            </a:gs>
            <a:gs pos="100000">
              <a:srgbClr val="11111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ntor: Gordon Gou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rdon was born in New York City in 192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rdon was working toward a Ph.d in physics at Colombia Un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Colombia University, Gordon was doing research on microwave spectrosco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Saturday night he was inspired instantly with the laser id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uld retired in 198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96080" y="609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800600" y="4876920"/>
            <a:ext cx="41911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ound Squ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/3/11, 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3203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1111"/>
            </a:gs>
            <a:gs pos="50000">
              <a:srgbClr val="cc0000"/>
            </a:gs>
            <a:gs pos="100000">
              <a:srgbClr val="11111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ntion: The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ser is a light wave amplif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evice was designed to heat something up to the temperature of the Sun in a millionth of a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uld abandoned his doctorate, fearing competition, to get his invention into pro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1958 the laser has been getting improvements to it until it was filed as a patient in 195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totype resulted in a 20 year lawsuit which was won by Gould in 197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same year the laser was issued out into the outside world to b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315200" y="609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00600" y="5410080"/>
            <a:ext cx="380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ound Squ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/3/11, 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3203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8:34:07Z</dcterms:created>
  <dc:creator>install</dc:creator>
  <dc:description/>
  <dc:language>en-US</dc:language>
  <cp:lastModifiedBy>install</cp:lastModifiedBy>
  <dcterms:modified xsi:type="dcterms:W3CDTF">2011-03-11T18:31:00Z</dcterms:modified>
  <cp:revision>11</cp:revision>
  <dc:subject/>
  <dc:title>Slide 1</dc:title>
</cp:coreProperties>
</file>